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B31-A9CE-48D6-A07E-F9AC690C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D80D-AD63-439F-8CB6-F398C8FD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7E4-76B1-42EC-ABC1-7FBE83BB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5A8-0D91-4EEA-8EE4-9243BD32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79B2-B28A-4917-866A-88A77070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7504-6914-4445-853A-8C6D96CA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1ECD-B820-4061-A122-A52ACF71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5FA8-68E7-4C2A-B053-39A6BEFD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259D-3C10-446D-922B-354FF8A7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39E1-DDA8-46C6-9701-6067F6B3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111F-4CD2-4B44-9063-379EEDDA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2C8A-3AC2-4DD4-9212-29C06A6C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AA48-1489-4BCF-8E94-2213D7A3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6AD0-2DB5-4F89-972F-B5D4EA0A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1D0F-19D5-4671-9196-70B9611B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F2CA-0F1F-4C71-B076-13527B8A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BCD7-6FD8-4BD1-A95F-8820FB74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8F86-D486-43AF-8E9E-884B0AA5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A93-30A1-4B8B-863A-2C3B187D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C6E-4123-4830-8649-286686B1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15C-88F7-497B-B6AB-257131BC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0DB6-3B0D-42C9-9EEB-30E630AA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2BF-CBCE-4686-B31E-C4936ECC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450-073A-44CB-90F2-5F2D0C5C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a452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26F4-2B45-44A7-AEE8-615A48D9540B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2985-12A1-4863-AB3A-8B47FAA2F0C4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4769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465480" y="549360"/>
            <a:ext cx="598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lackadder ITC"/>
              </a:rPr>
              <a:t>Cathy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Blackadder ITC"/>
              </a:rPr>
              <a:t>Freema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 rot="222000">
            <a:off x="3276720" y="2060640"/>
            <a:ext cx="25794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69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ff"/>
                </a:solidFill>
                <a:uFillTx/>
                <a:latin typeface="Blackadder ITC"/>
              </a:rPr>
              <a:t>Commonwealth Games in Auckland, New Zeala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 rot="926400">
            <a:off x="5795640" y="2565360"/>
            <a:ext cx="2154240" cy="3097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4360" y="3357720"/>
            <a:ext cx="36003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a45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5200"/>
                </a:solidFill>
                <a:latin typeface="Comic Sans MS"/>
              </a:rPr>
              <a:t>Gold medal in 19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a45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5200"/>
                </a:solidFill>
                <a:latin typeface="Comic Sans MS"/>
              </a:rPr>
              <a:t>First top-level        </a:t>
            </a:r>
            <a:r>
              <a:rPr b="0" lang="en-US" sz="2800" spc="-1" strike="noStrike">
                <a:solidFill>
                  <a:srgbClr val="a452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a45200"/>
                </a:solidFill>
                <a:latin typeface="Comic Sans MS"/>
              </a:rPr>
              <a:t>event</a:t>
            </a:r>
            <a:r>
              <a:rPr b="0" lang="en-US" sz="2800" spc="-1" strike="noStrike">
                <a:solidFill>
                  <a:srgbClr val="a452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a452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76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95280" y="260280"/>
            <a:ext cx="525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ff"/>
                </a:solidFill>
                <a:uFillTx/>
                <a:latin typeface="Blackadder ITC"/>
              </a:rPr>
              <a:t>World  Championships in Athe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731400">
            <a:off x="4572000" y="2852640"/>
            <a:ext cx="4176720" cy="2965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00000" y="414972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a45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45200"/>
                </a:solidFill>
                <a:latin typeface="Comic Sans MS"/>
              </a:rPr>
              <a:t>Gold Medal in 1990</a:t>
            </a:r>
            <a:r>
              <a:rPr b="0" lang="en-US" sz="1800" spc="-1" strike="noStrike">
                <a:solidFill>
                  <a:srgbClr val="a452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47694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0920" y="333360"/>
            <a:ext cx="60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ff"/>
                </a:solidFill>
                <a:uFillTx/>
                <a:latin typeface="Blackadder ITC"/>
              </a:rPr>
              <a:t>Commonwealth Games in Victoria, Canad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3429000"/>
            <a:ext cx="295272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a45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45200"/>
                </a:solidFill>
                <a:latin typeface="Comic Sans MS"/>
              </a:rPr>
              <a:t>Gold medals in </a:t>
            </a:r>
            <a:r>
              <a:rPr b="0" lang="en-US" sz="2400" spc="-1" strike="noStrike">
                <a:solidFill>
                  <a:srgbClr val="a452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a45200"/>
                </a:solidFill>
                <a:latin typeface="Comic Sans MS"/>
              </a:rPr>
              <a:t>19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a45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45200"/>
                </a:solidFill>
                <a:latin typeface="Comic Sans MS"/>
              </a:rPr>
              <a:t>Smashed                      Commonwealth 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a45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 rot="843000">
            <a:off x="4427280" y="2852280"/>
            <a:ext cx="388296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76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50920" y="333360"/>
            <a:ext cx="504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ff"/>
                </a:solidFill>
                <a:uFillTx/>
                <a:latin typeface="Blackadder ITC"/>
              </a:rPr>
              <a:t>The Olympic Games in Atlanta, U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3716280"/>
            <a:ext cx="345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a45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45200"/>
                </a:solidFill>
                <a:latin typeface="Comic Sans MS"/>
              </a:rPr>
              <a:t>Silver medal in the 400 metres in 19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a45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45200"/>
                </a:solidFill>
                <a:latin typeface="Comic Sans MS"/>
              </a:rPr>
              <a:t>6</a:t>
            </a:r>
            <a:r>
              <a:rPr b="0" lang="en-US" sz="2400" spc="-1" strike="noStrike" baseline="30000">
                <a:solidFill>
                  <a:srgbClr val="a452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a45200"/>
                </a:solidFill>
                <a:latin typeface="Comic Sans MS"/>
              </a:rPr>
              <a:t> fastest woman ever o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 rot="633600">
            <a:off x="4643280" y="2852280"/>
            <a:ext cx="33847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769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56000" y="4724280"/>
            <a:ext cx="705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ff"/>
                </a:solidFill>
                <a:uFillTx/>
                <a:latin typeface="Blackadder ITC"/>
              </a:rPr>
              <a:t>World championship in Seville, Spa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 rot="21033000">
            <a:off x="1042920" y="980640"/>
            <a:ext cx="2268720" cy="3384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00720" y="1484280"/>
            <a:ext cx="24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a45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5200"/>
                </a:solidFill>
                <a:latin typeface="Comic Sans MS"/>
              </a:rPr>
              <a:t>In the 400 metres in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47694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476280"/>
            <a:ext cx="604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4724280"/>
            <a:ext cx="64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ff"/>
                </a:solidFill>
                <a:uFillTx/>
                <a:latin typeface="Blackadder ITC"/>
              </a:rPr>
              <a:t>Olympic Games in Sydney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1125360"/>
            <a:ext cx="324000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old medal in 400 metres in 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egend of Austra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 rot="20911800">
            <a:off x="900000" y="1557360"/>
            <a:ext cx="309564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6949"/>
            </a:gs>
            <a:gs pos="100000">
              <a:srgbClr val="cc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2949840" cy="360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rot="20326200">
            <a:off x="797760" y="219564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ustralian first Aboriginal woman to win an Olympic Tr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391200">
            <a:off x="6443280" y="1988640"/>
            <a:ext cx="2050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he is a legend of Australia.</a:t>
            </a:r>
            <a:r>
              <a:rPr b="0" lang="en-US" sz="6000" spc="-1" strike="noStrike">
                <a:solidFill>
                  <a:srgbClr val="ffffff"/>
                </a:solidFill>
                <a:latin typeface="Blackadder ITC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2:07:40Z</dcterms:created>
  <dc:creator>Reservoir District Secondary College</dc:creator>
  <dc:description/>
  <dc:language>en-US</dc:language>
  <cp:lastModifiedBy>Reservoir District Secondary College</cp:lastModifiedBy>
  <dcterms:modified xsi:type="dcterms:W3CDTF">2008-07-17T02:44:29Z</dcterms:modified>
  <cp:revision>7</cp:revision>
  <dc:subject/>
  <dc:title>Slide 1</dc:title>
</cp:coreProperties>
</file>